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4FD6-DA7A-48A4-A54B-1E7E30801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ia Demonstrate how to use it. (30 m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(15 m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5 m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sh/document 20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D0E-3FAA-48A3-886E-DBC705F0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FA4-B2BC-4B8C-8278-764775AD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CEA-D781-4F63-9D2C-7138E9CD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470-4E64-4586-A865-938B9981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DA96-EFBF-42CF-85B5-9DA6ABCC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CC89-8438-4333-A0CF-76E3D95E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A6A0-E4F1-4667-BEE2-FA4BBA48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68FB-4CF2-4A17-89FD-BA11D047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EE75-F362-407A-8B41-1FAD75B5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6AE7-D5DB-4A23-AB4A-ECDA7867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F845-F917-44C2-9EFC-07FCD1FB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D10-9F17-4DC2-A34D-36E743C1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3CD3-E79E-4442-903A-316CBD81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AAFB-0581-4B94-B348-7B0CC38D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929A-AFBE-4AF8-8219-1D27F4AC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F223-1514-4B27-9779-FB198480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EE6D-4239-4A5A-AF85-132693D8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8A1-4EB2-4C68-B366-D14894BC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E8D-51CF-4E25-844A-22A9AEE4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7D0-2440-4807-8E6A-0F0DBF51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6EC-2E3A-48E2-8D7E-5756B910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799-6DF5-403A-A4B2-DADECB5E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83D-DBB4-4AAF-9F61-EEA492AB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F4F-A3CD-43BC-A4B6-AA789F2F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21C4-4788-4211-8CB7-7134A283D872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EE56-1191-43C1-8A59-BC83D213495D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dugains.ca/newsite/math/toolsandstrategies.htm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859280" cy="3984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43434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Proportional Reasoning: </a:t>
            </a: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Focused on Proportional Thinking</a:t>
            </a: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  </a:t>
            </a: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Day 2</a:t>
            </a:r>
            <a:br>
              <a:rPr sz="48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August 17, 2010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Paul Alves, Sonia Ellison &amp; Trish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ooking at Student Wor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rategies or solutions would you expect to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he student done to demonstrate their achievement of the learning go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information do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feedback would you provide the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3 Part Less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4479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rt the pieces of the TIPS lesson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ds On, Action, and Conso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 rot="20988000">
            <a:off x="1142640" y="4952520"/>
            <a:ext cx="4552920" cy="5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rot="725400">
            <a:off x="3581280" y="3733920"/>
            <a:ext cx="4648320" cy="7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38480" y="5334120"/>
            <a:ext cx="4629240" cy="11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990720" y="4114800"/>
            <a:ext cx="4362480" cy="46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lastic Meter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981080"/>
            <a:ext cx="75438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atio Tabl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920" y="2209680"/>
          <a:ext cx="8305560" cy="2133720"/>
        </p:xfrm>
        <a:graphic>
          <a:graphicData uri="http://schemas.openxmlformats.org/drawingml/2006/table">
            <a:tbl>
              <a:tblPr/>
              <a:tblGrid>
                <a:gridCol w="125244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djusting the Less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your lesson goal and its connection to a Big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the Minds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ACTION 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consol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38680" y="2514600"/>
            <a:ext cx="31626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ssessment of Learn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at the consolidation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it be appropriate as an assessment of learning opportunity? If not, how would you adjus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curriculum expectation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he expectation to a Big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Learning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Consolidation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Edit using Success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3563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914400"/>
            <a:ext cx="8077320" cy="5638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9144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37339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3276720"/>
            <a:ext cx="2590920" cy="9144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990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809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990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s/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3809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3429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tional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3244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229600" cy="3224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d Mad Worl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825720" cy="4572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48320" y="1752480"/>
            <a:ext cx="4038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a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uesday’s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lesson goals based on a Big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onsolidating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learning/discussion regarding propor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ing a 3 part lesson to align with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opportunities for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4RM9   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77960" y="1614600"/>
            <a:ext cx="75898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ticipation Guide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447920"/>
          <a:ext cx="8229240" cy="4723920"/>
        </p:xfrm>
        <a:graphic>
          <a:graphicData uri="http://schemas.openxmlformats.org/drawingml/2006/table">
            <a:tbl>
              <a:tblPr/>
              <a:tblGrid>
                <a:gridCol w="1136160"/>
                <a:gridCol w="1138680"/>
                <a:gridCol w="3846600"/>
                <a:gridCol w="1052640"/>
                <a:gridCol w="1055160"/>
              </a:tblGrid>
              <a:tr h="412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ag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ag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you double the length of a square, then the perimeter also doubl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you double the length of a square, then the area also doubl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you double the length of a square, then the length of the diagonal also doubl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you double the sides of a cube, then the volume also doubl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rowing Dilemma Investig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114800"/>
            <a:ext cx="83844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3048120"/>
            <a:ext cx="8380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971800"/>
            <a:ext cx="83808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038480"/>
            <a:ext cx="838440" cy="838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2286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943600" y="3429000"/>
            <a:ext cx="1143000" cy="1219320"/>
            <a:chOff x="5943600" y="3429000"/>
            <a:chExt cx="1143000" cy="1219320"/>
          </a:xfrm>
        </p:grpSpPr>
        <p:sp>
          <p:nvSpPr>
            <p:cNvPr id="110" name=""/>
            <p:cNvSpPr/>
            <p:nvPr/>
          </p:nvSpPr>
          <p:spPr>
            <a:xfrm>
              <a:off x="5943600" y="35053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24480" y="3429000"/>
              <a:ext cx="381240" cy="30492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48520" y="403848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477120" y="2438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238880" y="3200400"/>
            <a:ext cx="1143000" cy="1219320"/>
            <a:chOff x="7238880" y="3200400"/>
            <a:chExt cx="1143000" cy="1219320"/>
          </a:xfrm>
        </p:grpSpPr>
        <p:sp>
          <p:nvSpPr>
            <p:cNvPr id="115" name=""/>
            <p:cNvSpPr/>
            <p:nvPr/>
          </p:nvSpPr>
          <p:spPr>
            <a:xfrm>
              <a:off x="7238880" y="32767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9760" y="3200400"/>
              <a:ext cx="381240" cy="30492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43800" y="380988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200400" y="5486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racteris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e we looking f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curriculum specif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assess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usually, and definitely for CAMPPP, rooted in conceptual understand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Creating Lesson Goals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81680" cy="3463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581280" y="1752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djust as nee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819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4038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315200" cy="1922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733920" y="56386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Steele</cp:lastModifiedBy>
  <dcterms:modified xsi:type="dcterms:W3CDTF">2010-08-17T02:11:47Z</dcterms:modified>
  <cp:revision>162</cp:revision>
  <dc:subject/>
  <dc:title>Slide 1</dc:title>
</cp:coreProperties>
</file>